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0BF3-EA21-4E10-9CDC-5AF3FBD52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AF89-5F3F-4D87-9DC5-0743D5C586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курс предназначен для пользователей, имеющих опыт работы с программой PowerPoint. Если у учащихся нет опыта создания презентаций PowerPoint, предложите им начать с обучающей презентации под названием "Создание первой презентации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е для инструкто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Подробные сведения о настройке этого шаблона см. на последнем слайде. Кроме того, в области заметок некоторых слайдов доступны дополнительные материалы, относящиеся к уроку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06B1-B50D-443D-A8C7-AA9A86E237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ройка темы позволяет оформить презентацию неповторимым образ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3614-D0F7-42F0-8C67-B1102CEAA8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00D-179B-4BF4-BF4D-18F0082B8B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2A1D-8A65-4F66-8C1F-A38E17C97C5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мом деле фон есть у всех слайдов, но стандартный фон часто имеет белый цвет, поэтому кажется, что его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930E-A7F5-47D4-A014-C1B206DC1B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AF20-4F08-45D5-836E-CA310A6505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будет показано, как использовать в качестве фона слайда рису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3E5F-97A2-48AE-BFF4-8D66F19896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DBE-76A1-4BA1-905B-DFA87F6923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48E5-4A09-48B9-86BC-E725429FAE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DE8-56F7-4A9A-8034-05EC2D3AEB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только сохранить тему, чтобы ее можно было использовать в дальнейшем. В следующем разделе будет показано, как это дел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437E-0FF9-4D6B-B795-55CCEA60AC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936E-B5ED-4A60-9950-71CEB434D5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сохранения тем в виде файлов тем их можно использовать в Microsoft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Office Word 2007 и Microsoft Office Excel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2007, а также в сообщениях электронной почты Microsoft Office Outlook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200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йлы тем имеют собственный формат файла (Тема Office, THMX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сохранения темы ее можно применить к новой или существующей презентации. Для этого нужно открыть коллекцию тем и щелкнуть эскиз в групп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ьзовательск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EC10-EFC0-482A-B286-DA529FE399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чание для инструкто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Если на компьютере установлено приложение PowerPoint 2007, щелкните ссылку на слайде, чтобы перейти к интерактивному практическому заданию. При выполнении практического задания можно пользоваться инструкциями, которые прилагаются к каждому упражнению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сли приложение PowerPoint 2007 на компьютере не установлено, инструкции к практическим заданиям будут недоступны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8CA-78E5-457C-B61B-2BD0E1A94F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7625-0AB1-4B23-94B9-8EA85D9171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3737-3D60-4820-9262-92C85FE9C8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83D5-69B6-4C43-B318-5702ABF4A3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EC8F-B13B-447C-B704-7D13FC5F53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CAA6-C151-44E9-A592-1052A59289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F76-E499-4DCA-96C0-715139824B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AF1-8CA1-454F-AE42-DC3CD507DB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56840"/>
            <a:ext cx="5486400" cy="792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шаб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шаблоне Microsoft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Office PowerPoint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содержатся обучающие материалы по использованию и настройки тем для создания неповторимых презентаций в PowerPoint 2007. Шаблон можно изменять в соответствии со своими потребностями и использовать при проведении групповых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имое данного шаблона представляет собой адаптированный вариант урока "Индивидуальная настройка дизайна слайда" из интерактивного учебного курса Microsoft Office On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и шабл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тульный слай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 первом слайде вместо текста-заполнителя в квадратных скобках введите название своей организации. Если его не требуется показывать, просто удалите это текстовое п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и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 протяжении всей презентации используются эффекты анимации 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бор и задвиг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ягив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вор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шаш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 Все эффекты воспроизводятся в более ранних версиях вплоть до Microsoft PowerPoint 2000. Для изменения эффектов анимации 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ройка ани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установите необходимые парамет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мотр анимации Macromedia Flash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воспроизведения файла Flash необходимо зарегистрировать на компьютере элемент управления Microsoft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ActiveX</a:t>
            </a:r>
            <a:r>
              <a:rPr b="0" lang="ru-RU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с именем "Объект Shockwave Flash". Для этого загрузите с веб-узла Adobe последнюю версию проигрывателя Adobe Fla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упре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 сохранении Flash-анимации. Flash-анимация воспроизводится во всех версиях PowerPoint вплоть до PowerPoint 2000. Однако если необходимо сохранить этот шаблон в PowerPoint 2007, сохраните его в формате PowerPoint предыдущей версии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PowerPoint 97-2003 (*.ppt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блон PowerPoint 97-2003 (*.pot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ти типы файлов можно увидеть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хранить ка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по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 фай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) При сохранении файла в формате PowerPoint 2007, например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PowerPoint (*.ppt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блон PowerPoint (*.potx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нимация в файле не сохраня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на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а протяжении всего показа используется эффект смены слайд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вление сверх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Чтобы применить другой эффект, выберите в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ена слай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установите необходимые парамет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перссылки на интерактивный курс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шаблоне содержатся ссылки на версию курса, размещенную в Интернете. Памятка и материалы практического задания, доступные по этим ссылкам, помогут закрепить полученные знания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Для просмотра практических заданий на компьютере должно быть установлено приложение PowerPoint 2007. Если это приложение не установлено, доступ к инструкциям по практическим заданиям будет невозмож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шаблоне имеется нижний колонтитул с названием учебного курса. Изменить этот текст или удалить нижний колонтитул можно в диалоговом окн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онтиту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оторое открывается из меню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662B-69E7-40BF-98CA-A4634A2F3B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845-2CA4-4DC2-AE17-021F52DB51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A76B-657F-4733-B351-C5E0A7E0E7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72B-5E6F-42DC-9782-F4EFC60D52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 определяют внешний вид и структуру слайдов. Темы применяются ко всем презентациям, даже к нов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о один или два щелчка мышью для смены темы позволяют радикально изменить оформление презентации. На трех представленных слайдах в глаза бросается смена цвета. Но если внимательно приглядеться к слайду слева, можно увидеть, что внизу каждого слайда присутствует рамка заголовка, и это несмотря на то, что во всех трех слайдах используется одинаковый мак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оловок и содержимо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льзовались приложением PowerPoint 2003 или более ранними версиями, то должны быть знакомы с шаблонами оформления. В PowerPoint 2007 вместо шаблонов оформления используются темы, которые являются гораздо более универсаль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2BE6-3F15-474B-B43C-67BCCE7C3B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79D-C367-447C-B92A-C641A510A0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FFEB-E374-4A98-94DC-4172AB42EA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31D-4EDD-4095-9A15-C11BBB94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9B7-49BD-4198-B3DB-4D063FA9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7A6-A202-4480-91CE-18A0E5F9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184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268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100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184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268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8F4-56E3-418D-8BD8-2E496EE2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22A9-14F0-46A8-898D-F0DFD163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9950-390D-4C86-BA38-B34B92C5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023-06B9-4F67-B365-DBBCB37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E09E-091C-4995-B182-AA2DB963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418D-9376-40C3-9840-7FE48289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4200" y="7272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D8B-56EE-4CAD-8232-9A13543A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4B64-4F97-408E-B1BB-9D4D26A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050-E3A1-4D90-A374-697E0B2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968E-8CD8-43B1-A223-1F49496E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575-11C1-4907-B3F1-820CC47C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2CFA-2E53-4D71-8A2E-44EA1AC9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B7AE-4F81-4420-8809-86F008B0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0184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2680" y="91440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100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0184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2680" y="3541320"/>
            <a:ext cx="27147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DF21-084A-437C-9359-BF2CC6C2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D21-BF89-41F1-B476-1041445F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FA4-7C8E-44C9-9D42-45662038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F32-0D83-4F77-A8A3-71CB394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4200" y="7272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508-E6CE-495D-89E1-344D39B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DBA-469A-42F5-ADB2-4A40777A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000" y="354132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6BE-322E-48FE-AAC5-D2F87D36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000" y="914400"/>
            <a:ext cx="41140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1000" y="3541320"/>
            <a:ext cx="8431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E574-EF25-44F5-A53A-0794F60B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17640" y="6200280"/>
            <a:ext cx="370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Times New Roman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0BE2-15E9-43C6-A189-48E42015B637}" type="slidenum">
              <a:rPr b="0" lang="ru-RU" sz="1600" spc="-1" strike="noStrike">
                <a:solidFill>
                  <a:srgbClr val="005ab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ab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Times New Roman"/>
              </a:rPr>
              <a:t>Индивидуальная настройка дизайна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5ab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7D40-E28A-45AA-ACFE-A4B5F832C59D}" type="slidenum">
              <a:rPr b="0" lang="ru-RU" sz="2400" spc="-1" strike="noStrike">
                <a:solidFill>
                  <a:srgbClr val="005ab4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training/training.aspx?AssetID=RP102253701033&amp;CTT=6&amp;Origin=RP10225380103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training/Training.aspx?AssetID=RP102253721033&amp;CTT=6&amp;Origin=RC10225369103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2760" y="2219040"/>
            <a:ext cx="69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Microsoft</a:t>
            </a:r>
            <a:r>
              <a:rPr b="0" lang="ru-RU" sz="2800" spc="-1" strike="noStrike" baseline="70000">
                <a:solidFill>
                  <a:srgbClr val="ffffff"/>
                </a:solidFill>
                <a:latin typeface="Arial"/>
                <a:ea typeface="Tahoma"/>
              </a:rPr>
              <a:t>®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Office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ru-RU" sz="2800" spc="-1" strike="noStrike" baseline="70000">
                <a:solidFill>
                  <a:srgbClr val="ffffff"/>
                </a:solidFill>
                <a:latin typeface="Arial"/>
                <a:ea typeface="Tahoma"/>
              </a:rPr>
              <a:t>®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Tahoma"/>
              </a:rPr>
              <a:t>2007: Обучение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290840"/>
            <a:ext cx="64008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Индивидуальная настройка дизайна слай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019240" y="12016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Название организации] представля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и настройка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сный способ выделить презентацию среди презентаций других туристических компаний — настроить тему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использованием параметров вклад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зай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77920" y="3994200"/>
            <a:ext cx="667692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Темы можно изменять с помощью встроенных сочетаний цветов, шрифтов и эффектов. Также можно настроить собственную тему, создав новое сочетание цветов и шрифтов т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стройки можно сохранить для повторного использования, что позволит экономить время в последующ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Коллекции цветов, шрифтов и эффектов тем"/>
          <p:cNvPicPr/>
          <p:nvPr/>
        </p:nvPicPr>
        <p:blipFill>
          <a:blip r:embed="rId2"/>
          <a:stretch/>
        </p:blipFill>
        <p:spPr>
          <a:xfrm>
            <a:off x="339840" y="933480"/>
            <a:ext cx="56624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Настройка цветов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презентация не была похожей на другие, цвета темы можно заменить други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77920" y="3994200"/>
            <a:ext cx="592596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Если нажать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Цвета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, в коллек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Цвета 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будут отображены все наборы цветов встроенных тем, а также названия соответствующих т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создать свои цвета, выберите команд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оздать новые цвета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, которая находится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нижней части коллек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Цвета 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3" descr="Слайд с цветами темы по умолчанию и с настроенными цветами темы"/>
          <p:cNvPicPr/>
          <p:nvPr/>
        </p:nvPicPr>
        <p:blipFill>
          <a:blip r:embed="rId2"/>
          <a:stretch/>
        </p:blipFill>
        <p:spPr>
          <a:xfrm>
            <a:off x="351000" y="915840"/>
            <a:ext cx="5651280" cy="238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Настройка цветов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презентация не была похожей на остальные, цвета темы можно заменить други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339840" y="4513320"/>
          <a:ext cx="2696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51332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339840" y="4960800"/>
          <a:ext cx="2696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496080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76440" y="4502160"/>
            <a:ext cx="5940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айд со встроенной темой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ток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Этот же слайд с измененными цве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77920" y="3994200"/>
            <a:ext cx="5925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 рисунке показан 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Слайд с цветами темы по умолчанию и с настроенными цветами темы"/>
          <p:cNvPicPr/>
          <p:nvPr/>
        </p:nvPicPr>
        <p:blipFill>
          <a:blip r:embed="rId6"/>
          <a:stretch/>
        </p:blipFill>
        <p:spPr>
          <a:xfrm>
            <a:off x="351000" y="915840"/>
            <a:ext cx="5651280" cy="238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фона слайд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настройки цветов в слайд можно добавить ф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77920" y="3994200"/>
            <a:ext cx="56419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изменить стиль фона,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тили фона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на вкладк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3" descr="Слайд с фоном по умолчанию, цветным фоном и текстурным фоном"/>
          <p:cNvPicPr/>
          <p:nvPr/>
        </p:nvPicPr>
        <p:blipFill>
          <a:blip r:embed="rId2"/>
          <a:stretch/>
        </p:blipFill>
        <p:spPr>
          <a:xfrm>
            <a:off x="351000" y="949320"/>
            <a:ext cx="565128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фона слайд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настройки цветов в слайд можно добавить ф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339840" y="4535640"/>
          <a:ext cx="2696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53564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339840" y="4983120"/>
          <a:ext cx="26964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498312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39840" y="5446800"/>
          <a:ext cx="26964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9840" y="544680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676440" y="4502160"/>
            <a:ext cx="594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Т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ток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со стандартным ф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тиль с однотонным ф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Фон с текстур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77920" y="3994200"/>
            <a:ext cx="5925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иже показано несколько примеров ф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2" descr="Слайд с фоном по умолчанию, цветным фоном и текстурным фоном"/>
          <p:cNvPicPr/>
          <p:nvPr/>
        </p:nvPicPr>
        <p:blipFill>
          <a:blip r:embed="rId8"/>
          <a:stretch/>
        </p:blipFill>
        <p:spPr>
          <a:xfrm>
            <a:off x="351000" y="949320"/>
            <a:ext cx="565128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Изменение фона слайд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или фона определяются темой: при изменении темы изменяются доступные в коллекции вариан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277920" y="3994200"/>
            <a:ext cx="620532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Так же, как и в случае с темами, стили фона можно применять к нескольким или ко всем слайдам презентации. Щелкните эскиз правой кнопкой мыши и выберите нужный вариант применения к слайда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ведите указатель на любой эскиз для динамического просмотра фона применительно к слай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2" descr="Слайд с фоном по умолчанию, цветным фоном и текстурным фоном"/>
          <p:cNvPicPr/>
          <p:nvPr/>
        </p:nvPicPr>
        <p:blipFill>
          <a:blip r:embed="rId2"/>
          <a:stretch/>
        </p:blipFill>
        <p:spPr>
          <a:xfrm>
            <a:off x="351000" y="949320"/>
            <a:ext cx="565128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ab4"/>
                </a:solidFill>
                <a:latin typeface="Arial"/>
              </a:rPr>
              <a:t>Использование рисунка в качестве фона слайда</a:t>
            </a:r>
            <a:endParaRPr b="0" lang="en-US" sz="28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слайды создаются для тур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опические страны, чтобы клиенты представили себе эти страны, в качестве фона вместо цвета или текстуры можно использовать рису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339840" y="4135320"/>
          <a:ext cx="269640" cy="3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13532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5"/>
          <p:cNvGraphicFramePr/>
          <p:nvPr/>
        </p:nvGraphicFramePr>
        <p:xfrm>
          <a:off x="339840" y="5129280"/>
          <a:ext cx="26964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512928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676440" y="4102200"/>
            <a:ext cx="594036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иже представлены области и вкладки диалогового окна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Формат фона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При переключении областей меняются доступные парамет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ыберите этот параметр, чтобы использовать 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качестве фона слайда рисунок или текстуру вместо сплошной или градиентной залив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3" descr="Коллекция стилей фона и диалоговое окно ''Формат фона''"/>
          <p:cNvPicPr/>
          <p:nvPr/>
        </p:nvPicPr>
        <p:blipFill>
          <a:blip r:embed="rId6"/>
          <a:stretch/>
        </p:blipFill>
        <p:spPr>
          <a:xfrm>
            <a:off x="304920" y="914400"/>
            <a:ext cx="5667120" cy="2857680"/>
          </a:xfrm>
          <a:prstGeom prst="rect">
            <a:avLst/>
          </a:prstGeom>
          <a:ln w="0">
            <a:noFill/>
          </a:ln>
        </p:spPr>
      </p:pic>
      <p:sp>
        <p:nvSpPr>
          <p:cNvPr id="189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ab4"/>
                </a:solidFill>
                <a:latin typeface="Arial"/>
              </a:rPr>
              <a:t>Использование рисунка в качестве фона слайда</a:t>
            </a:r>
            <a:endParaRPr b="0" lang="en-US" sz="28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слайды создаются для тур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опические страны, чтобы клиенты представили себе эти страны, в качестве фона вместо цвета или текстуры можно использовать рису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Object 6"/>
          <p:cNvGraphicFramePr/>
          <p:nvPr/>
        </p:nvGraphicFramePr>
        <p:xfrm>
          <a:off x="339840" y="4135320"/>
          <a:ext cx="269640" cy="3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13532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76440" y="4102200"/>
            <a:ext cx="59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Чтобы вставить рисунок из файла,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Файл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и найдите рисунок, который требуется вставить. Чтобы вставить рисунок из буфера обмена или другой программы, скопируйте рисунок и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уфер обмена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Чтобы использовать коллекцию картинок, 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лип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и введите в пол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скать текст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слово, описывающее картин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Коллекция стилей фона и диалоговое окно ''Формат фона''"/>
          <p:cNvPicPr/>
          <p:nvPr/>
        </p:nvPicPr>
        <p:blipFill>
          <a:blip r:embed="rId4"/>
          <a:stretch/>
        </p:blipFill>
        <p:spPr>
          <a:xfrm>
            <a:off x="304920" y="914400"/>
            <a:ext cx="566712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Обесцвечивание рисунк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ле добавления рисунка его необходимо сделать менее ярким или обесцветить, чтобы он не мешал воспринимать текст и другое содержимое слай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339840" y="4535640"/>
          <a:ext cx="269640" cy="30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53564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5"/>
          <p:cNvGraphicFramePr/>
          <p:nvPr/>
        </p:nvGraphicFramePr>
        <p:xfrm>
          <a:off x="339840" y="4983120"/>
          <a:ext cx="269640" cy="30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498312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76440" y="4502160"/>
            <a:ext cx="594036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айд с оригинальным фоновым рисун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лайд после применения параметра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бесцветит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277920" y="3994200"/>
            <a:ext cx="5925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пример, результат можно видеть ниж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3" descr="Слайд с фоновым рисунком и слайд с измененными цветами фонового рисунка"/>
          <p:cNvPicPr/>
          <p:nvPr/>
        </p:nvPicPr>
        <p:blipFill>
          <a:blip r:embed="rId6"/>
          <a:stretch/>
        </p:blipFill>
        <p:spPr>
          <a:xfrm>
            <a:off x="351000" y="893880"/>
            <a:ext cx="5651280" cy="23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Обесцвечивание рисунк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изменить яркость или контраст рисунка, можно воспользоваться параметрами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бласт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уно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иалогового окн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т ф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77920" y="3994200"/>
            <a:ext cx="59259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ерекрасит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, чтобы открыть коллекцию, в которой к рисунку можно применить стилизованный эффект (такой как обесцвечивание, оттенки серого или сепия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Затем, чтобы получить этот эффект, выберите вариант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бесцветит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в групп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ежимы цветов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1" descr="Слайд с фоновым рисунком и слайд с измененными цветами фонового рисунка"/>
          <p:cNvPicPr/>
          <p:nvPr/>
        </p:nvPicPr>
        <p:blipFill>
          <a:blip r:embed="rId2"/>
          <a:stretch/>
        </p:blipFill>
        <p:spPr>
          <a:xfrm>
            <a:off x="351000" y="893880"/>
            <a:ext cx="5651280" cy="238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держание курса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828360"/>
            <a:ext cx="843120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276120">
              <a:spcBef>
                <a:spcPts val="700"/>
              </a:spcBef>
              <a:spcAft>
                <a:spcPts val="2625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ие сведения о создании неповторимых презент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spcBef>
                <a:spcPts val="700"/>
              </a:spcBef>
              <a:spcAft>
                <a:spcPts val="2625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е: заставьте темы работать на в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28600" y="4610160"/>
            <a:ext cx="82296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ие включает в себя несколько практических заданий и список контрольных воп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9760" y="63000"/>
            <a:ext cx="89042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хранение файла новой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9640" y="853920"/>
            <a:ext cx="2745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использовать тему в других презентациях туров в тропические страны, ее необходимо сохранить в качеств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йла т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Object 12"/>
          <p:cNvGraphicFramePr/>
          <p:nvPr/>
        </p:nvGraphicFramePr>
        <p:xfrm>
          <a:off x="339840" y="4100400"/>
          <a:ext cx="269640" cy="3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840" y="410040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3"/>
          <p:cNvGraphicFramePr/>
          <p:nvPr/>
        </p:nvGraphicFramePr>
        <p:xfrm>
          <a:off x="339840" y="4829040"/>
          <a:ext cx="269640" cy="3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840" y="4829040"/>
                    <a:ext cx="269640" cy="3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4"/>
          <p:cNvGraphicFramePr/>
          <p:nvPr/>
        </p:nvGraphicFramePr>
        <p:xfrm>
          <a:off x="339840" y="5537160"/>
          <a:ext cx="269640" cy="30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3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9840" y="5537160"/>
                    <a:ext cx="269640" cy="3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15"/>
          <p:cNvSpPr/>
          <p:nvPr/>
        </p:nvSpPr>
        <p:spPr>
          <a:xfrm>
            <a:off x="676440" y="4079880"/>
            <a:ext cx="6167160" cy="18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ажмите кнопку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ополнительные параметр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, чтобы открыть коллекцию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ткройте диалоговое окно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охранение текущей 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, в котором можно сохранить т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нем можно видеть настроенные и сохраненные 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17" descr="Коллекция тем с пользовательской темой"/>
          <p:cNvPicPr/>
          <p:nvPr/>
        </p:nvPicPr>
        <p:blipFill>
          <a:blip r:embed="rId8"/>
          <a:stretch/>
        </p:blipFill>
        <p:spPr>
          <a:xfrm>
            <a:off x="351000" y="949320"/>
            <a:ext cx="5651280" cy="284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Упражнения для практического занятия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5760" y="813960"/>
            <a:ext cx="89060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перименты с тем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пользовательских цветов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фона слай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рисунка в качестве фона слай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цвечивание рису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spcAft>
                <a:spcPts val="1874"/>
              </a:spcAft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хранение в качестве новой т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93760" y="4622760"/>
            <a:ext cx="53686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dee8f9"/>
                </a:solidFill>
                <a:uFillTx/>
                <a:latin typeface="Arial"/>
                <a:hlinkClick r:id="rId2"/>
              </a:rPr>
              <a:t>Интерактивное практическое зад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требуется PowerPoint 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1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2120" y="851040"/>
            <a:ext cx="768528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ы всегда применяются ко всем слайдам презентации. (Выберите один ответ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43000" y="2344680"/>
            <a:ext cx="76248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вер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1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815760"/>
            <a:ext cx="8350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299880" y="2000160"/>
            <a:ext cx="835056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щелкнуть правой кнопкой мыши эскиз темы, которую требуется применить, можно выбрать, к каким слайдам она будет примене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2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2640" y="851040"/>
            <a:ext cx="702612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помимо цветов, шрифтов и эффектов включает в себя тема? (Выберите один ответ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43000" y="2241720"/>
            <a:ext cx="762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кс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г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2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1720" y="836280"/>
            <a:ext cx="8350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37960" y="2082960"/>
            <a:ext cx="8350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каждой темы есть 12 встроенных стилей фона. При этом всегда можно создать или настроить собствен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3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42640" y="851040"/>
            <a:ext cx="7684920" cy="11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оспользоваться динамическим просмотром темы или стиля фона? (Выберите один ответ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43000" y="2241720"/>
            <a:ext cx="762480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ержать указатель мыши на эскизе в коллек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Щелкнуть эскиз правой кнопкой мы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spcAft>
                <a:spcPts val="187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ажды щелкнуть эски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онтрольный вопрос 3: ответ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1720" y="877680"/>
            <a:ext cx="8350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ержать указатель мыши на эскизе в колле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37960" y="2124000"/>
            <a:ext cx="835056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намический просмотр позволяет до применения тем, фонов и других экспресс-стилей узнать, как будет выглядеть слайд или презент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Краткий справочник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5760" y="882360"/>
            <a:ext cx="785196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одку практических заданий этого учебного курса см. в </a:t>
            </a:r>
            <a:r>
              <a:rPr b="0" lang="ru-RU" sz="1800" spc="-1" strike="noStrike" u="sng">
                <a:solidFill>
                  <a:srgbClr val="dee8f9"/>
                </a:solidFill>
                <a:uFillTx/>
                <a:latin typeface="Arial"/>
                <a:hlinkClick r:id="rId2"/>
              </a:rPr>
              <a:t>кратком справочник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 ИСПОЛЬЗОВАНИИ ЭТОГО ШАБЛОНА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Подробную справку по этому шаблону см. в области заметок внизу страницы или на странице заметок (меню или вкладка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Вид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 rot="10800000">
            <a:off x="304920" y="650880"/>
            <a:ext cx="1000080" cy="541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8313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577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ab4"/>
                </a:solidFill>
                <a:latin typeface="Arial"/>
              </a:rPr>
              <a:t>Общие сведения о создании неповторимых презентаций</a:t>
            </a:r>
            <a:endParaRPr b="0" lang="en-US" sz="2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852560" y="880920"/>
            <a:ext cx="5896080" cy="49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тите сделать свою презентацию PowerPoint 2007 непохожей на остальн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й презентации рассказано, что такое темы, как их изменять и настраивать, а также как использовать в качестве фона слайда определенный цвет, текстуру или рисун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здесь описан способ сохранения темы, чтобы ее легко было использовать для других презен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Эскиз слайда с фоновым рисунком"/>
          <p:cNvPicPr/>
          <p:nvPr/>
        </p:nvPicPr>
        <p:blipFill>
          <a:blip r:embed="rId2"/>
          <a:stretch/>
        </p:blipFill>
        <p:spPr>
          <a:xfrm>
            <a:off x="349200" y="1239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4200" y="727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Задачи курса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864720"/>
            <a:ext cx="8431200" cy="46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е фона слайда с использованием цвета или рису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ройка темы презент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spcAft>
                <a:spcPts val="2251"/>
              </a:spcAft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ение настроенной темы для повторного использования в презентация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нятие</a:t>
            </a:r>
            <a:endParaRPr b="0" lang="en-US" sz="44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Заставьте темы работать на в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Заставьте темы работать на вас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 работаете в компании "Анна-тур", которая планирует предлагать клиентам путешествия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тропические страны. Необходимо, чтобы презентация выделялась уникальным оформлением, которое можно было бы использовать в будущ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77920" y="3994200"/>
            <a:ext cx="592920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позволяют легко создавать профессионально оформленные презентации. Темы позволяют сделать так, чтобы все элементы слайда (фон, текст, надписи и фигуры) всегда дополняли друг друг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Три темы, один слайд"/>
          <p:cNvPicPr/>
          <p:nvPr/>
        </p:nvPicPr>
        <p:blipFill>
          <a:blip r:embed="rId2"/>
          <a:stretch/>
        </p:blipFill>
        <p:spPr>
          <a:xfrm>
            <a:off x="339840" y="905040"/>
            <a:ext cx="5662440" cy="2854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ставляющие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ень важно выделиться среди конкурентов, поэтому слайды о турах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опические стран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олжны напоминать слайды других комп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77920" y="3994200"/>
            <a:ext cx="592596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зменение и настройка темы может выделить презентацию и сделать ее запоминающей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ежде чем перейти к этому немного рассмотрим сами т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Коллекция «Темы»"/>
          <p:cNvPicPr/>
          <p:nvPr/>
        </p:nvPicPr>
        <p:blipFill>
          <a:blip r:embed="rId2"/>
          <a:stretch/>
        </p:blipFill>
        <p:spPr>
          <a:xfrm>
            <a:off x="339840" y="933480"/>
            <a:ext cx="56624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ставляющие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мы представляют собой совокупность цветов, шрифтов, эффектов и фонов, примененных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дному слайд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нескольким слайдам или ко всей презен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77920" y="3994200"/>
            <a:ext cx="61689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Темы находятся в коллек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Темы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на вкладке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зайн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Как показано на рисунке, при открытии коллекции тем можно видеть темы, которые используются в открытой презентации, пользовательские и встроенные те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Коллекция «Темы»"/>
          <p:cNvPicPr/>
          <p:nvPr/>
        </p:nvPicPr>
        <p:blipFill>
          <a:blip r:embed="rId2"/>
          <a:stretch/>
        </p:blipFill>
        <p:spPr>
          <a:xfrm>
            <a:off x="339840" y="933480"/>
            <a:ext cx="56624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0960" y="73080"/>
            <a:ext cx="80280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ab4"/>
                </a:solidFill>
                <a:latin typeface="Arial"/>
              </a:rPr>
              <a:t>Составляющие темы</a:t>
            </a:r>
            <a:endParaRPr b="0" lang="en-US" sz="3200" spc="-1" strike="noStrike">
              <a:solidFill>
                <a:srgbClr val="005ab4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119640" y="853920"/>
            <a:ext cx="274500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задержать указатель мыши на эскизе в коллекци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о можно увидеть, как тема будет выглядеть, если применить е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презент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7920" y="3994200"/>
            <a:ext cx="59259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spcAft>
                <a:spcPts val="16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Это называется динамическим просмотром. Чтобы увидеть, как будет выглядеть слайд с применением различных тем, не требуется никаких дополнительных действ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339840" y="3951360"/>
            <a:ext cx="8413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355840" y="6200640"/>
            <a:ext cx="4432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5ab4"/>
                </a:solidFill>
                <a:latin typeface="Arial"/>
              </a:rPr>
              <a:t>Индивидуальная настройка дизайна слай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8" descr="Коллекция «Темы»"/>
          <p:cNvPicPr/>
          <p:nvPr/>
        </p:nvPicPr>
        <p:blipFill>
          <a:blip r:embed="rId2"/>
          <a:stretch/>
        </p:blipFill>
        <p:spPr>
          <a:xfrm>
            <a:off x="339840" y="933480"/>
            <a:ext cx="5662440" cy="2854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7:34:52Z</dcterms:created>
  <dc:creator>Axel Springer User</dc:creator>
  <dc:description/>
  <cp:keywords/>
  <dc:language>en-US</dc:language>
  <cp:lastModifiedBy>Axel Springer User</cp:lastModifiedBy>
  <dcterms:modified xsi:type="dcterms:W3CDTF">2008-09-02T17:34:58Z</dcterms:modified>
  <cp:revision>1</cp:revision>
  <dc:subject/>
  <dc:title>Microsoft® Office  PowerPoint®  2007: Обуч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53091049</vt:lpwstr>
  </property>
</Properties>
</file>